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563595"/>
        <c:axId val="28311480"/>
      </c:barChart>
      <c:catAx>
        <c:axId val="245635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311480"/>
        <c:crosses val="autoZero"/>
        <c:auto val="1"/>
        <c:lblAlgn val="ctr"/>
        <c:lblOffset val="100"/>
        <c:noMultiLvlLbl val="0"/>
      </c:catAx>
      <c:valAx>
        <c:axId val="283114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635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0050-AD82-47AB-9862-3124853CE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1F2D-016D-4199-9B64-8BD805CC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4237-1A5D-4D97-8E05-A609949F6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D477-D660-42BF-B664-0572478A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7552-0666-4967-9B67-FBDEB084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D81C-C114-4AE7-B91F-FAB28DA5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F8B1-47FC-41F5-99E6-7C4534F9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89B4-9B0E-4F68-9F3F-E8F93203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6384-085F-44F5-AEA0-D82A9AC5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E57F-8301-44ED-82B0-ECD976F4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3FFE-7939-4B42-BDA8-CB9D79C0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6EC9-55A5-46DC-AA5D-F7D17B6A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CEB71-87CE-4F56-A98B-008FF525DE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