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29683"/>
        <c:axId val="56144922"/>
      </c:barChart>
      <c:catAx>
        <c:axId val="81229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44922"/>
        <c:crosses val="autoZero"/>
        <c:auto val="1"/>
        <c:lblAlgn val="ctr"/>
        <c:lblOffset val="100"/>
        <c:noMultiLvlLbl val="0"/>
      </c:catAx>
      <c:valAx>
        <c:axId val="56144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29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4AE-6B89-46D4-BAD2-D25B889B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A9F-78BE-472B-9C18-D34FC4E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563-3BB1-49A6-9E65-50E56E3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72D-8C35-4F82-8573-FAE0ACE6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B73-BE2F-4986-BD9D-FABA96BD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E71-2764-4A9D-BAAF-26D04A9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C77-E7DC-4110-A55D-B3B66E2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8B1-9AE4-4F60-8DBF-CB09BA7C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B7F-56D4-4883-B138-AD438DF2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873-1814-4366-AC2B-27131C9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621-8311-4B02-ACD9-3E9D4FB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D53-E046-4E73-808B-2FA9194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C74F3-E3CF-49F3-BC41-437F4397EF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