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92227"/>
        <c:axId val="24571888"/>
      </c:barChart>
      <c:catAx>
        <c:axId val="68192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1888"/>
        <c:crosses val="autoZero"/>
        <c:auto val="1"/>
        <c:lblAlgn val="ctr"/>
        <c:lblOffset val="100"/>
        <c:noMultiLvlLbl val="0"/>
      </c:catAx>
      <c:valAx>
        <c:axId val="24571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2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600-E5D8-4D79-B9B6-10B849C4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6E4-FE0D-4DE3-B7E3-63E74FF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E8C-0C83-48A2-820F-40D63167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B12-631A-4187-A712-916DEDC2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830-1A8E-4E3F-B660-5758089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A67-7A9A-4561-B4BF-46603EC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356-4874-47DF-9C44-CF9ADC2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EE4E-8255-498F-B3A9-D8EDEB9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8B0-D332-47C3-8126-9E4EDB7E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513-BA62-417F-A92F-481066D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16F-1A1F-4EA9-95B7-D402511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4E8-9608-4461-8F23-0727CE8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908D4-F391-4A1B-BEC3-73CE3F354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