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8407"/>
        <c:axId val="26783094"/>
      </c:barChart>
      <c:catAx>
        <c:axId val="478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83094"/>
        <c:crosses val="autoZero"/>
        <c:auto val="1"/>
        <c:lblAlgn val="ctr"/>
        <c:lblOffset val="100"/>
        <c:noMultiLvlLbl val="0"/>
      </c:catAx>
      <c:valAx>
        <c:axId val="26783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7B2A-3FAF-486F-B99E-E60D7671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52CA-02BA-446A-B344-014F3796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FD9A-0AB1-4E28-9BFD-3029E572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865C-2A2F-4CB9-8858-B59F97EF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984-D4BC-4B8C-814F-4E3F8C21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AE9-FFED-46D6-81D5-078C6F37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9E9B-4297-440C-8C99-036F5CB4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AE69-5372-48F4-B8AE-FD62B7AC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D867-B5A4-4C88-9F61-E0D27676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B4A5-8CCE-4AA7-B379-DC53D493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669-1F72-4A92-8282-582CD219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2A0-92C3-40F0-A931-52B214FC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D6CD0-C21B-48E3-860F-D21E702A7A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