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98731"/>
        <c:axId val="8112373"/>
      </c:barChart>
      <c:catAx>
        <c:axId val="27998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2373"/>
        <c:crosses val="autoZero"/>
        <c:auto val="1"/>
        <c:lblAlgn val="ctr"/>
        <c:lblOffset val="100"/>
        <c:noMultiLvlLbl val="0"/>
      </c:catAx>
      <c:valAx>
        <c:axId val="8112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98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1C5-F795-4EDE-8D3B-C60C5132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849-7A03-4388-8D49-7741D25D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598-276A-44A2-9628-92A42EC3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955-85B7-460A-B08A-E18B2613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539-7B84-4AF4-8AB3-2710A993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734-E149-45C3-907B-FC2DD172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42B-BF62-4C3F-86BB-3E3F98D0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07B-35F0-4649-8AE7-7C1FFD90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845-C7D1-4D2D-BACB-FEDDDD9B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0A7-F59F-45E0-AB35-2E38C4D8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245-9F48-4F46-9D3F-DBF67E97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688-3007-4687-AD69-4D31227F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08F74-7D5E-44DF-A255-CF49739E40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