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99600"/>
        <c:axId val="44390052"/>
      </c:barChart>
      <c:catAx>
        <c:axId val="57199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90052"/>
        <c:crosses val="autoZero"/>
        <c:auto val="1"/>
        <c:lblAlgn val="ctr"/>
        <c:lblOffset val="100"/>
        <c:noMultiLvlLbl val="0"/>
      </c:catAx>
      <c:valAx>
        <c:axId val="44390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99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A41D-98BD-4A85-9453-3038FAE1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3165-F887-4816-B62F-22AFADB8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0C1-1BDF-4E59-8F1A-808D3C0B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074F-1405-408E-B860-27418C05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2E4-8024-4A5A-BF35-B08054C4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A81-BD8C-4731-9E7E-54B97B80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BC48-C024-4732-8DC4-5765FF26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85AA-2822-485D-A110-118EFA93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53B-1668-4D21-97C9-5DA5E9B7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73E8-BD2E-4C2F-84D5-2A629084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AA9C-8297-42FA-889A-B86E4A1E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8FFD-95FA-4C98-9E00-FA7B9454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ED88A-A36A-4340-98A5-3599F62C25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