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8794233"/>
        <c:axId val="54985713"/>
      </c:barChart>
      <c:catAx>
        <c:axId val="4879423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985713"/>
        <c:crosses val="autoZero"/>
        <c:auto val="1"/>
        <c:lblAlgn val="ctr"/>
        <c:lblOffset val="100"/>
        <c:noMultiLvlLbl val="0"/>
      </c:catAx>
      <c:valAx>
        <c:axId val="5498571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79423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8ACB-0ED2-4924-90F8-6890B38F8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B984-85F5-425A-9BE2-1E4008EC0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F5A9-788C-4811-95D5-4EBD7E5F5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B5DA-2586-4BC2-B70D-D5B469862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7BE6-ADF6-4B21-9F64-BD10FEB52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E19E-3580-4F7B-8F0D-CD6F2BE93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F4B6-636B-4B6A-A656-F6A36F170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E838-F463-4253-B1A8-348AFFA88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44CA-EADA-46A8-9038-B3E448C99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96F3-EA9A-4D7B-B53C-FF1DCF7F3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3FD0-B58D-4146-917F-431AD0813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8715-52E8-4119-9E08-89406E600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72036E-98FC-4608-A045-06CA578CC59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