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93960"/>
        <c:axId val="80497259"/>
      </c:barChart>
      <c:catAx>
        <c:axId val="82593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97259"/>
        <c:crosses val="autoZero"/>
        <c:auto val="1"/>
        <c:lblAlgn val="ctr"/>
        <c:lblOffset val="100"/>
        <c:noMultiLvlLbl val="0"/>
      </c:catAx>
      <c:valAx>
        <c:axId val="80497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93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97E-E37B-4BDF-A52A-240E6D37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33F-42C8-41DB-99BD-2336133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D23-4D41-4A7C-BE9C-DCA89A64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4C0-296A-4CEA-99F1-99E90F98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6CD-2DCF-46B3-8E32-AF6065BC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942-8018-4B1B-84EC-5D569AD9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703-5FF5-4A91-ABDD-45D0BBD3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F0F-24CE-4D62-BB42-E00EFB75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A8E-DAF5-4823-8564-CDAFC303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9CC-1A98-4844-955B-0C74B3EC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35D-74DE-413E-9F98-F678BA4A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FA1-FBBC-4900-87D5-2210ADA3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469FD-AE0E-4729-9E68-BFD63EB85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