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322418"/>
        <c:axId val="59870522"/>
      </c:barChart>
      <c:catAx>
        <c:axId val="483224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70522"/>
        <c:crosses val="autoZero"/>
        <c:auto val="1"/>
        <c:lblAlgn val="ctr"/>
        <c:lblOffset val="100"/>
        <c:noMultiLvlLbl val="0"/>
      </c:catAx>
      <c:valAx>
        <c:axId val="598705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224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6EBE-EE00-4616-BF69-DD924BEB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2643-EFE4-409D-8639-D3432B1F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E722-73BB-46BF-BC18-7E04CD57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2DDC-6E91-4C65-BC78-4D0F4E27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E202-0FC2-4B97-BA9A-5138AF9B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1A8D-FFC7-4665-ADFE-EA49B5DD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C57-90F7-405D-8DB8-AEB3F8AE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789C-18F1-46EA-A6D3-E20B7E51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011-01DF-4D2D-9DE0-1C2F828D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3452-28A3-4473-B295-CB9A7617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3967-F618-408A-9056-E9E8C092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2D4D-E156-4F93-9411-ED35B97A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7C683-B607-4F61-A404-A51FC57C68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