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659880"/>
        <c:axId val="69355448"/>
      </c:barChart>
      <c:catAx>
        <c:axId val="846598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355448"/>
        <c:crosses val="autoZero"/>
        <c:auto val="1"/>
        <c:lblAlgn val="ctr"/>
        <c:lblOffset val="100"/>
        <c:noMultiLvlLbl val="0"/>
      </c:catAx>
      <c:valAx>
        <c:axId val="693554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6598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A53C-DDD8-4B38-95D1-FFA347A89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23FD-5B21-4DF3-AD65-26CF519F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9155-44F3-4F4B-AFB0-CA3930C60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E5F0-9CC4-40CE-A743-CDA2E4876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509A-D7A5-46AE-94C2-D81EF686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A9B0-7AFA-4E19-807C-B54FDF31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FC6C-6DF6-4DFD-8A60-00F543C1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96C0-BF95-4468-8C1C-5B88FC1B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B254-71A1-4A85-9DEB-ACAA92B8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6071-A7E7-47E9-90AB-EA4EA254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C274-87BE-4096-8AD9-A315C0B3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A8D7-1A9F-49C3-A439-C7484F29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63638D-69D2-4291-939D-9F515C8BBB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