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28877"/>
        <c:axId val="90462453"/>
      </c:barChart>
      <c:catAx>
        <c:axId val="19728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62453"/>
        <c:crosses val="autoZero"/>
        <c:auto val="1"/>
        <c:lblAlgn val="ctr"/>
        <c:lblOffset val="100"/>
        <c:noMultiLvlLbl val="0"/>
      </c:catAx>
      <c:valAx>
        <c:axId val="90462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28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4CA-6FDC-4A81-BA43-5A81AE34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09A-44B6-4DC6-AF4B-CFE3A360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126-D038-4766-9F04-4DE79F07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3E6-FE5E-4C1A-B614-C1AF68CE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0E0-A6D1-4B00-AFF7-D1A4305E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606-484D-4341-B970-9E5D97A7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91A-3F87-430E-A7D8-5E45222F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358-3A0C-4E6D-AB4F-B34AF879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439-0967-4A4D-BC07-F9F9F303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8DA-371D-4A99-868C-0B0E11C9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5EF-6C51-4D8A-B2FD-3D3C4C6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DEE-91CF-4142-9682-8DC31A2C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81DC3-DCF1-449D-8D98-9F67B534EF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