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17336"/>
        <c:axId val="35097239"/>
      </c:barChart>
      <c:catAx>
        <c:axId val="3221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97239"/>
        <c:crosses val="autoZero"/>
        <c:auto val="1"/>
        <c:lblAlgn val="ctr"/>
        <c:lblOffset val="100"/>
        <c:noMultiLvlLbl val="0"/>
      </c:catAx>
      <c:valAx>
        <c:axId val="35097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8D1-D5F5-42DD-B300-C56D2C9B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314-3B4C-4090-918D-33ECD59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D36-66D8-4273-BB51-06FB44E6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505-55A0-4C95-8FF8-993409FB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8D1-434B-4067-A914-A9556C5F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CB0-CC4E-441D-B72D-BF9F14E0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22C-EDED-4F69-A91F-CC2D7FB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63E-72FC-4479-9B1A-F07156D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550-8BA2-4A8B-9F79-DD55928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B1F-51AA-4753-8C06-32BC49D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D72-6319-4307-A4E6-E5DF48C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B86-12AA-4725-B9FC-6FE756B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6848C-E48A-4E9A-90DF-B5AF9511F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