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2486"/>
        <c:axId val="7962294"/>
      </c:barChart>
      <c:catAx>
        <c:axId val="4472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2294"/>
        <c:crosses val="autoZero"/>
        <c:auto val="1"/>
        <c:lblAlgn val="ctr"/>
        <c:lblOffset val="100"/>
        <c:noMultiLvlLbl val="0"/>
      </c:catAx>
      <c:valAx>
        <c:axId val="7962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2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CCC-8F04-48B0-B70A-4E1D1849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C17-895A-4A4F-B3CC-111A6D3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4D5-9650-497E-B835-EC4652CB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3FE-38EC-48CB-816E-D41F59FC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797-4D27-4F91-846C-CFCD1734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B9B-1DF0-423F-9BD0-F506DF57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66F-D914-4F33-92EC-7898B5D9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857-C77C-4B40-801B-57FF00CA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CCC-FFF5-4060-834F-B82BFFE8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9B6-548D-46B6-AC5D-C40AC651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2CC-9705-4759-B27C-6064220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34E-C8A9-4B35-B1B9-18CDCD64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737B8-FDA0-449B-80C9-A02DC0A952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