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84215"/>
        <c:axId val="86271101"/>
      </c:barChart>
      <c:catAx>
        <c:axId val="28484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1101"/>
        <c:crosses val="autoZero"/>
        <c:auto val="1"/>
        <c:lblAlgn val="ctr"/>
        <c:lblOffset val="100"/>
        <c:noMultiLvlLbl val="0"/>
      </c:catAx>
      <c:valAx>
        <c:axId val="86271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4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5A-415E-4E2F-8862-3F50B5EC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DDB-F1DC-497A-A8FE-6D6DB6D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AD0-F50D-4515-953F-00B675E9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7A4-1BA0-4DE6-8AEE-C9A0BFAF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CCC-F717-4CCB-AC81-63C3B6B5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9EA-AB77-4B8A-B40C-EFD32BDE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98F-4CE0-4845-B7C8-E7B3451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6CA-E2F5-4BDC-81AB-0E1785A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608-F2C0-42E1-9AE9-068CF0A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626-EE28-43D2-9E3E-E5DE16B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C9E-007D-4A14-847C-A2D3688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B1C-6504-401F-A010-D134F5B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4F68B-11E5-4FF3-99CA-D2C26FED2C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