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11288"/>
        <c:axId val="80499361"/>
      </c:barChart>
      <c:catAx>
        <c:axId val="23611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99361"/>
        <c:crosses val="autoZero"/>
        <c:auto val="1"/>
        <c:lblAlgn val="ctr"/>
        <c:lblOffset val="100"/>
        <c:noMultiLvlLbl val="0"/>
      </c:catAx>
      <c:valAx>
        <c:axId val="80499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11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327A-1DE8-4833-88A5-DB9DEAC8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0502-9BBA-49E6-AA77-0AC08605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5C04-5BBC-4C61-B2D6-90779C26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177-8032-4E1F-9E73-FFB02F672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CC2-E136-4FBE-9448-DC88868A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7716-A843-46B0-990E-3F868CD6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3DA1-FF9E-486A-9732-F0AB4B24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B8F-934A-4D2A-8B63-4068C2F0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6EAF-719C-4183-9581-086B01A3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B859-D083-41F3-907E-90B1362B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DCCB-8307-4DC2-93EE-D8EF7CB2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5D0-8346-4874-9742-DBF7062A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71E64-582C-4CAB-824C-03C43A56EB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