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110982"/>
        <c:axId val="91802022"/>
      </c:barChart>
      <c:catAx>
        <c:axId val="931109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802022"/>
        <c:crosses val="autoZero"/>
        <c:auto val="1"/>
        <c:lblAlgn val="ctr"/>
        <c:lblOffset val="100"/>
        <c:noMultiLvlLbl val="0"/>
      </c:catAx>
      <c:valAx>
        <c:axId val="918020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1109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2169-A47B-4367-9BF4-BE0903305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1211-7DE1-4915-A13B-E906D95A3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D009-8646-49B3-88B3-3C76DC9BD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6C21-1228-4892-8AB1-C2302E3A9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54B0-3D69-4079-8D51-A34992C37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F033-C85E-462B-9742-D3DC2DDF6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DA67-7BE4-4E6B-AE1A-603FED017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4D88-340B-49A6-92E9-211EF7D91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938E-6225-4B1F-AE09-F8D247BD0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8DD2-2913-4F12-BF9B-274F8640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0007-AAA3-4B47-AA68-33AE07EE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7A06-4795-4D78-B978-88A1D237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73CDFF-8C8A-4AD9-86E5-4E224A0A531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