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18996"/>
        <c:axId val="18502613"/>
      </c:barChart>
      <c:catAx>
        <c:axId val="39218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2613"/>
        <c:crosses val="autoZero"/>
        <c:auto val="1"/>
        <c:lblAlgn val="ctr"/>
        <c:lblOffset val="100"/>
        <c:noMultiLvlLbl val="0"/>
      </c:catAx>
      <c:valAx>
        <c:axId val="18502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8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740-1FFB-4FC4-A052-869D5CD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D3B-D50D-46E2-8DE1-ED5141D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3B7-9C5A-4E8E-9963-0767CF28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47B-2ED8-4A94-BC48-F5954E5B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D44-B43C-4F18-A863-25633D66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2EA-7D9F-4B38-B71A-67DA1C4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C9F-ECF1-4359-A54D-432A7C84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C41-81F7-4EB0-B639-D18D2853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E8E-8417-4774-8E02-8108A8BB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368-FD39-4D2A-A8B8-FD04882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7D2-A807-47B0-939F-6A7F3EC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D64-7D97-4BD8-A2D8-54AAC34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46EF0-6053-47AC-8D3F-6D067F170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