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555407"/>
        <c:axId val="11521532"/>
      </c:barChart>
      <c:catAx>
        <c:axId val="505554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21532"/>
        <c:crosses val="autoZero"/>
        <c:auto val="1"/>
        <c:lblAlgn val="ctr"/>
        <c:lblOffset val="100"/>
        <c:noMultiLvlLbl val="0"/>
      </c:catAx>
      <c:valAx>
        <c:axId val="115215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554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70DA-482B-4144-8494-F039C259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1380-B459-4847-85F0-B83D44C8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C0FE-3F35-4396-A870-90A4E3B5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20DB-9EBE-4B4F-90E4-87C7927F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21C1-C54C-4BB6-A358-EEBE7909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7608-1028-4C0D-92C4-2441BEAC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CA28-7642-49AE-9E55-78A0D8B6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1F16-AE23-4DBD-B9D5-18E3D07D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55CE-4B9C-4F22-B765-DD795748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7EE-4C47-4EA9-B9A4-8310CBFD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5468-2E04-4140-A570-EE34D43F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CAF2-50B7-4F2F-892E-687DCF7E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6BC86-E161-4404-B1DC-D978BB4AEA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