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1490625"/>
        <c:axId val="69137656"/>
      </c:barChart>
      <c:catAx>
        <c:axId val="9149062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137656"/>
        <c:crosses val="autoZero"/>
        <c:auto val="1"/>
        <c:lblAlgn val="ctr"/>
        <c:lblOffset val="100"/>
        <c:noMultiLvlLbl val="0"/>
      </c:catAx>
      <c:valAx>
        <c:axId val="6913765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49062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06721-8F81-404D-BFCB-4E6CAF7D3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76BE7-98EC-401D-BC11-415C13B1E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4DA5E-83ED-4EDB-8DB0-928242931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B45D3-0E5C-40F9-BA45-CE77C92DD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02F8E-450D-4339-BACC-4645E9E71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7928E-1B82-4BC9-9A27-7FF2DF35C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98CD3-5354-43F3-B586-083553F30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F0132-6100-48E8-A576-D0BAC262C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E2AA2-F897-4696-AD4F-6F8943E02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614D7-38D7-458C-8700-C99B28E35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166E8-28AA-43AF-8168-56A160BA3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FFBF3-A9E4-4A06-91BE-B5C874C3C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FD9F2C-11A8-41F2-AB19-754FB0552E3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